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B964-2449-4814-B647-218659395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E46F-97D6-45F6-88E5-626E2495F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BE4069-D65B-4916-B763-67259565A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B5E133-547C-4C12-9852-A9CB12869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B0D527-DCD9-4BA5-A66B-D173BB7C4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459714-C2D4-4280-B1B1-80F04037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B298FC-3E9C-4F9D-A62E-281D4B6B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D8C7C1-7471-498E-937A-E9DB93C8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63A500-E8E2-47AC-A510-006A864A0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7381F1-4560-453B-91CD-D5E3DC0F1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0FD504-8B6F-40EB-97CA-E52C058DB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C6E7-E5A4-4888-BD30-D54AED3B3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0811-B242-4FB9-96EF-80A6202DC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9BCC1-6907-49E1-ACB4-595ECDF23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97DEB-F160-49F7-A0EE-EC6350D32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AC3C3-52A7-4BAF-A5CA-FA47B5770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61430-A4F3-46BB-9FD4-902192120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51A98-4FEF-4842-B1E2-63A783563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9A8B3-5558-4E3F-9C1C-851E5A47C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69B68-2D75-452E-A0B4-F16EAA22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1DA4-3550-410C-AEC8-BCDAE9E03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20B2D-E5CD-499C-9A90-3D24B0A2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E1BF0-7B0F-4B2D-8591-048B3382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ECACE-44D7-4054-8EA7-FA2FE110E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AC5A0-8F8A-4EE9-9D98-61F0FC13C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FA951-E15E-4789-920F-08A7E70DE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CE3A6-2D00-4E20-9C92-C69070B03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8F14B-AE05-4387-A996-E8C9DF95F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41271-CF85-40AE-A52E-B8C622830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2BB41-D5D6-4AD7-9255-93CB4091A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596F6-7521-4FEF-BB4A-74C2180B5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F145-81E5-4562-AFFC-5519A08DE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ACADF-09A1-491A-B43A-AD6E290D8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4D3F6-C441-43BB-9A32-DF159554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11D2F-97E4-4763-AE9D-DD3F996D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2E443-7544-48DA-AC6A-5AECABA1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2D299-62CF-46D6-885D-FCA2C66E1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BC764-7F9C-4C35-9D48-251E7BBC2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05016-5B32-464D-8BC4-04FFD2356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BD23F0-F560-4C6A-B734-E1C274382CF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D9947F-82F5-4DED-BCA2-0F4983B4907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F7C954-A3B5-4C45-B8F4-73AB0C3155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23BC-59D4-45CB-96C2-A5064132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ED5575-FBD0-48CF-9274-F6273DCEC16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4E0C23-0873-4FD1-B9EB-24D6CA59872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623AAD-4D35-4C51-BE15-DC6F59DCC07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685676-F183-43BE-BF61-7258B566A51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660F9E-D572-4ADC-B716-8ED2E25024B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2D6665-EE14-4F0C-8C51-1911EDBFFC4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E3B15C-956B-459E-A9B0-628E0B1BD1A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B154C6-05F2-4512-959A-76D6F49AC2B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C17F71-41AB-457B-9BC5-9576730827D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26BED-CBCB-497F-B787-631199C90C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E467-05BF-483E-83D5-787020394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6BF09-8B00-4006-9301-6CAB7E36820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4888D-69B4-41F7-AB63-F710C0172EA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EECFC-1350-421D-9647-2BB5FAB8435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DA9C2-2EDB-4D58-ABFE-5CEF5DA23D2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BC411-345E-4C11-8CB8-AC561AFB46E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1DC8B-8334-44EE-A5A2-0317D1E3F9B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5E1B5-2C88-4292-852A-309F5529306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BCB59-996A-453E-ACD0-2B5645152EA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80D46-58CC-4908-8FB7-9F51677AEBB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E93C8-B4C1-43F6-9F25-F273B443C6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97A1-D474-4053-B28E-A310724FD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571AF-CE54-471A-8B32-5EE839B1040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D3330C-A8D5-418D-BF47-A1D6A4F9F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B657D73-0741-44CD-8764-39C90DBB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C1227C8-10D2-414D-B442-8388ACD1B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1265D6-A485-4785-B464-1AAD1D434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73E5F0-9FFA-43A9-A98C-038642BD3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CEED458-D8F6-49B5-8A42-C8467D615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930D65-376E-477D-A5E4-6B596629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8AD4005-6382-4969-B3F9-0C763B17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21AF1E-DA57-470C-AC66-0457EDB9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5167-D9FF-470F-B7B4-039C91CF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3400AB-739C-452D-8B50-99057D180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8BD2AF-A601-4011-8161-EA1885993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CC03F7-E909-462D-B643-42219F068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DAA9D-6D11-4930-9790-AAB095075CB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39695-F525-4FA6-9128-4924FD70FD0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6C44F-DFEA-475C-9419-78E3B2383CC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3C29D-738B-4557-8ED8-1A5F2BB8C39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8A994-6E85-40E1-B141-B30BBDC0565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BB52B-17DB-4021-B27F-982EBCDA8D0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D05F18-236D-4460-AF87-97B23CB939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BAF4-C902-40FF-922B-6EDBA53C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B25000-834B-4652-96C3-BD7529095AA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D78CF-7FE5-4DDC-97B2-4F0139FDACA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97EDD-677D-4A3E-8EFE-E0F60CA591D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CE712-610B-49C0-8B9C-0D02B67C448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E0221-C290-4AF9-ADF0-D719C144B27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DB7B85-232C-4EFE-B5A4-4F5CD23FF08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FD7DDE-9845-4A16-A998-A2BEF568274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1519B6-B23A-4680-B871-19089A32BDC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60F0E7-15F8-4242-9855-4C48CEAB252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DB5823-1856-4440-A382-6ED46183E6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639C-69D5-411F-BB1B-3360F682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5E70BF-53E7-407F-9DA1-E22E4FC0BA8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D49C2A-50C6-46D4-92B4-3BE16E6214B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B77007-508E-4AED-9588-F5338DABFF1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0B733D-BF44-4CE8-9236-9BF46B8BFD8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3BA4C0-F1B0-405C-B9BB-22BAC26D611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D0B9D4-A090-4F38-A884-0A1AD7309A8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E5AF42-D3D4-4A8D-8B38-10A5E54A138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371EF0-CCFB-446A-A2B4-686063EE2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350C7C-0E68-429F-8583-842DC739C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300F1B-D371-4680-B9F0-03140BBDB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2A990-C1F3-4260-B148-426B3790DA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8E4FE-538E-4D66-85AD-73C15E2720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71B4D-B664-4242-9E20-EA51218099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7696080" y="0"/>
            <a:ext cx="1447920" cy="1523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0" y="0"/>
            <a:ext cx="7221600" cy="43876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0" y="6126120"/>
            <a:ext cx="9144000" cy="731880"/>
          </a:xfrm>
          <a:prstGeom prst="rect">
            <a:avLst/>
          </a:prstGeom>
          <a:solidFill>
            <a:srgbClr val="e00024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ftr" idx="10"/>
          </p:nvPr>
        </p:nvSpPr>
        <p:spPr>
          <a:xfrm>
            <a:off x="685800" y="61722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Chapter 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ldNum" idx="1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lide </a:t>
            </a:r>
            <a:fld id="{0A204D4E-1F08-4033-956C-4456D43EF78B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165720" y="6137280"/>
            <a:ext cx="298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International 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6498000" y="644436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Thomson/South-Wes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gt;&gt; C H E C K P O I N 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0" y="0"/>
            <a:ext cx="1371600" cy="1371600"/>
          </a:xfrm>
          <a:prstGeom prst="rect">
            <a:avLst/>
          </a:prstGeom>
          <a:gradFill rotWithShape="0">
            <a:gsLst>
              <a:gs pos="0">
                <a:srgbClr val="9361a2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306360" y="228600"/>
            <a:ext cx="365616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0" y="6122880"/>
            <a:ext cx="9144000" cy="731880"/>
          </a:xfrm>
          <a:prstGeom prst="rect">
            <a:avLst/>
          </a:prstGeom>
          <a:solidFill>
            <a:srgbClr val="e00024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Num" idx="12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lide </a:t>
            </a:r>
            <a:fld id="{6DBE7B5C-83CC-4780-B97B-051D9B32DA3A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6096240" y="6137280"/>
            <a:ext cx="305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International Mark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3"/>
          <p:cNvSpPr/>
          <p:nvPr/>
        </p:nvSpPr>
        <p:spPr>
          <a:xfrm>
            <a:off x="6498000" y="644436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Thomson/South-Wes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4"/>
          <p:cNvSpPr/>
          <p:nvPr/>
        </p:nvSpPr>
        <p:spPr>
          <a:xfrm>
            <a:off x="380880" y="304920"/>
            <a:ext cx="344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Arial"/>
              </a:rPr>
              <a:t>DECA PR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15" descr="DecaPrepMedal"/>
          <p:cNvPicPr/>
          <p:nvPr/>
        </p:nvPicPr>
        <p:blipFill>
          <a:blip r:embed="rId3"/>
          <a:stretch/>
        </p:blipFill>
        <p:spPr>
          <a:xfrm>
            <a:off x="6934320" y="228600"/>
            <a:ext cx="1761840" cy="174636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2"/>
          <p:cNvSpPr>
            <a:spLocks noGrp="1"/>
          </p:cNvSpPr>
          <p:nvPr>
            <p:ph type="ftr" idx="13"/>
          </p:nvPr>
        </p:nvSpPr>
        <p:spPr>
          <a:xfrm>
            <a:off x="685800" y="61722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Chapter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13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244A0-4A88-4084-99DC-53F1DB9B453F}" type="slidenum">
              <a:rPr b="0" lang="en-US" sz="1200" spc="-1" strike="noStrike">
                <a:solidFill>
                  <a:srgbClr val="ffffff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8"/>
          <p:cNvSpPr/>
          <p:nvPr/>
        </p:nvSpPr>
        <p:spPr>
          <a:xfrm>
            <a:off x="7696080" y="0"/>
            <a:ext cx="1447920" cy="1523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9"/>
          <p:cNvSpPr/>
          <p:nvPr/>
        </p:nvSpPr>
        <p:spPr>
          <a:xfrm>
            <a:off x="0" y="0"/>
            <a:ext cx="7221600" cy="43876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10"/>
          <p:cNvSpPr/>
          <p:nvPr/>
        </p:nvSpPr>
        <p:spPr>
          <a:xfrm>
            <a:off x="0" y="6126120"/>
            <a:ext cx="9144000" cy="731880"/>
          </a:xfrm>
          <a:prstGeom prst="rect">
            <a:avLst/>
          </a:prstGeom>
          <a:solidFill>
            <a:srgbClr val="e00024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13"/>
          <p:cNvSpPr/>
          <p:nvPr/>
        </p:nvSpPr>
        <p:spPr>
          <a:xfrm>
            <a:off x="6165720" y="6137280"/>
            <a:ext cx="298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International 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4"/>
          <p:cNvSpPr/>
          <p:nvPr/>
        </p:nvSpPr>
        <p:spPr>
          <a:xfrm>
            <a:off x="6498000" y="644436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Thomson/South-Wes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gt;&gt; C H E C K P O I N 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ftr" idx="17"/>
          </p:nvPr>
        </p:nvSpPr>
        <p:spPr>
          <a:xfrm>
            <a:off x="685800" y="61722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Chapter 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ldNum" idx="18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lide </a:t>
            </a:r>
            <a:fld id="{5C99E3AD-E3C7-4647-BE89-94DB582E19FE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0" y="0"/>
            <a:ext cx="1371600" cy="1371600"/>
          </a:xfrm>
          <a:prstGeom prst="rect">
            <a:avLst/>
          </a:prstGeom>
          <a:gradFill rotWithShape="0">
            <a:gsLst>
              <a:gs pos="0">
                <a:srgbClr val="9361a2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306360" y="228600"/>
            <a:ext cx="365616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0" y="6122880"/>
            <a:ext cx="9144000" cy="731880"/>
          </a:xfrm>
          <a:prstGeom prst="rect">
            <a:avLst/>
          </a:prstGeom>
          <a:solidFill>
            <a:srgbClr val="e00024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6096240" y="6137280"/>
            <a:ext cx="305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International Mark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8"/>
          <p:cNvSpPr/>
          <p:nvPr/>
        </p:nvSpPr>
        <p:spPr>
          <a:xfrm>
            <a:off x="6498000" y="644436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Thomson/South-Wes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9"/>
          <p:cNvSpPr/>
          <p:nvPr/>
        </p:nvSpPr>
        <p:spPr>
          <a:xfrm>
            <a:off x="380880" y="304920"/>
            <a:ext cx="344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Arial"/>
              </a:rPr>
              <a:t>DECA PR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Picture 10" descr="DecaPrepMedal"/>
          <p:cNvPicPr/>
          <p:nvPr/>
        </p:nvPicPr>
        <p:blipFill>
          <a:blip r:embed="rId3"/>
          <a:stretch/>
        </p:blipFill>
        <p:spPr>
          <a:xfrm>
            <a:off x="6934320" y="228600"/>
            <a:ext cx="1761840" cy="174636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12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250AE0B2-1006-49A7-9134-03D7EA0D4CD2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13"/>
          <p:cNvSpPr/>
          <p:nvPr/>
        </p:nvSpPr>
        <p:spPr>
          <a:xfrm>
            <a:off x="685800" y="617220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apter 1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lide </a:t>
            </a:r>
            <a:fld id="{81C8B52A-F9BE-40D9-A2C8-FD6517A227DA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348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2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21D2D-4D99-4BE6-85FE-D300E97C02C3}" type="slidenum">
              <a:rPr b="0" lang="en-US" sz="1200" spc="-1" strike="noStrike">
                <a:solidFill>
                  <a:srgbClr val="ffffff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6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6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6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6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6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Tahoma"/>
              </a:rPr>
              <a:t>The Economics of </a:t>
            </a:r>
            <a:br>
              <a:rPr sz="5400"/>
            </a:br>
            <a:r>
              <a:rPr b="1" lang="en-US" sz="5400" spc="-1" strike="noStrike">
                <a:solidFill>
                  <a:srgbClr val="008000"/>
                </a:solidFill>
                <a:latin typeface="Tahoma"/>
              </a:rPr>
              <a:t>Supply and Demand</a:t>
            </a: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     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143000" y="487692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3356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9.1 Supply and Deman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03356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9.2 Pricing Strategi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03356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9.3 Market Conditions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Text Box 8"/>
          <p:cNvSpPr/>
          <p:nvPr/>
        </p:nvSpPr>
        <p:spPr>
          <a:xfrm>
            <a:off x="762120" y="304920"/>
            <a:ext cx="396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  <a:ea typeface="Arial"/>
              </a:rPr>
              <a:t>Chapter 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AAB13-D422-4E0B-ADEC-1E887C604699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Equilibriu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quilibri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point where the supply and demand curves inters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icates the best quantity and price for goods and servi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EAC22-ABF3-4D49-B08D-0C203A6E8647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4" name="Picture 4" descr=""/>
          <p:cNvPicPr/>
          <p:nvPr/>
        </p:nvPicPr>
        <p:blipFill>
          <a:blip r:embed="rId1"/>
          <a:srcRect l="14065" t="16666" r="28908" b="12502"/>
          <a:stretch/>
        </p:blipFill>
        <p:spPr>
          <a:xfrm>
            <a:off x="1523880" y="533520"/>
            <a:ext cx="5562720" cy="5181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B4DDC-1253-4B8C-8B56-97FC574ABEE9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Concerts in the Spotligh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cert prices can be set hig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mited supp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gh dem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demand is high enough, supply can be increased by adding a second show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DC27D-83AD-4615-89F6-F07400563D93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533160" y="2431800"/>
            <a:ext cx="8001000" cy="34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does price affect demand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0" name="Picture 13" descr=""/>
          <p:cNvPicPr/>
          <p:nvPr/>
        </p:nvPicPr>
        <p:blipFill>
          <a:blip r:embed="rId1"/>
          <a:srcRect l="0" t="3232" r="0" b="0"/>
          <a:stretch/>
        </p:blipFill>
        <p:spPr>
          <a:xfrm>
            <a:off x="380880" y="457200"/>
            <a:ext cx="7856640" cy="2286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267F7-A4C8-4A5B-A72C-BEA3D6A462B9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GOVERNMENT INFLUENCE ON PRICING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vate-enterprise 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sed upon independent decisions made by consumers and busines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4" name="Picture 5" descr=""/>
          <p:cNvPicPr/>
          <p:nvPr/>
        </p:nvPicPr>
        <p:blipFill>
          <a:blip r:embed="rId1"/>
          <a:srcRect l="36720" t="44795" r="37502" b="31250"/>
          <a:stretch/>
        </p:blipFill>
        <p:spPr>
          <a:xfrm>
            <a:off x="6553080" y="4267080"/>
            <a:ext cx="2362320" cy="1646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3EDBE-0958-44A3-953F-07BC86D2262D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3"/>
          <p:cNvSpPr/>
          <p:nvPr/>
        </p:nvSpPr>
        <p:spPr>
          <a:xfrm>
            <a:off x="609480" y="1219320"/>
            <a:ext cx="78487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he U.S. government has an influence on prices charged for merchandise directly and indirectly through antitrust laws, taxation, and various consumer protection law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DBD18-8E68-4992-8565-15148F8B1741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Benefits of Competi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nopo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re one business controls the entire mark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titrust laws encourage competition and help avoid monopol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58F1D-2F95-4165-95AB-55A86E08C7F7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Tax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xation can be used by the government to encourage or discourage sa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13703-E2D0-479B-BE6E-98AF1A91B425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Illegal Pric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ice fix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related businesses conspire to charge high pri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llegal in U.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3C9EC-8195-4353-86B0-602C96744B3F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685440" y="1599840"/>
            <a:ext cx="7924680" cy="44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a product that is advertised at a great price is “out of stock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lesperson tries to sell customer a higher-priced alterna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vertised prices cannot be mislea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ice discrimin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ccurs when one individual, group, or business is charged a higher price than others purchasing the same product or serv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Rectangle 3"/>
          <p:cNvSpPr/>
          <p:nvPr/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bait and swi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64BAD-9AE9-43AC-8817-E4BF16AF6B89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Winning Strategi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aties cereal discovered by accid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rst featured star was fictitio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u Gehrig was first actual star featu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y athletes make it a career goal to be featured on the bo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99, women in sports were feature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Text Box 4"/>
          <p:cNvSpPr/>
          <p:nvPr/>
        </p:nvSpPr>
        <p:spPr>
          <a:xfrm>
            <a:off x="457200" y="106668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Cereal Star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88573-941F-450D-9D3F-C265E817591E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533160" y="2431800"/>
            <a:ext cx="8001000" cy="34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st three ways the government influences pric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1" name="Picture 3" descr=""/>
          <p:cNvPicPr/>
          <p:nvPr/>
        </p:nvPicPr>
        <p:blipFill>
          <a:blip r:embed="rId1"/>
          <a:srcRect l="0" t="3232" r="0" b="0"/>
          <a:stretch/>
        </p:blipFill>
        <p:spPr>
          <a:xfrm>
            <a:off x="380880" y="457200"/>
            <a:ext cx="7856640" cy="2286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3D0EE-9A30-49DF-87C1-ED9512241AB6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Tahoma"/>
              </a:rPr>
              <a:t>Lesson 9.2</a:t>
            </a:r>
            <a:br>
              <a:rPr sz="2000"/>
            </a:br>
            <a:r>
              <a:rPr b="0" lang="en-US" sz="4000" spc="-1" strike="noStrike">
                <a:solidFill>
                  <a:srgbClr val="990000"/>
                </a:solidFill>
                <a:latin typeface="Tahoma"/>
              </a:rPr>
              <a:t>Pricing Strategi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09480" y="1978200"/>
            <a:ext cx="7772400" cy="39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ahoma"/>
              </a:rPr>
              <a:t>Goal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cuss pricing strategies used by businesses to increase sa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st five steps for determining pric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BB26B-EAE2-44C3-81DA-5DA067A80FD3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Term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762120" y="1750680"/>
            <a:ext cx="777240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perating expen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k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ce li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ss-leader pric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491CB-0CF0-4C26-867C-F8F10BA929A0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ICING CONSIDERATI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mount that customers pay for products and servi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1" name="Picture 4" descr=""/>
          <p:cNvPicPr/>
          <p:nvPr/>
        </p:nvPicPr>
        <p:blipFill>
          <a:blip r:embed="rId1"/>
          <a:srcRect l="36720" t="44795" r="37502" b="31250"/>
          <a:stretch/>
        </p:blipFill>
        <p:spPr>
          <a:xfrm>
            <a:off x="6553080" y="4267080"/>
            <a:ext cx="2362320" cy="1646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8250D-5320-43BC-BAE3-70CD9D66704A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/>
          </p:nvPr>
        </p:nvSpPr>
        <p:spPr>
          <a:xfrm>
            <a:off x="685440" y="144792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process of establishing and communicating the value of goods and services to custom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perating expen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the costs associated with running your busin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ark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mount that is added to the cost of an item to cover operating expenses and allow for a prof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85800" y="8380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pri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79E89-DA96-4582-9AE7-10AC24E868A4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ny companies offering the same produ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ustomers do not recognize major differences in the bran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market will drive the prices low as businesses compete for consumers’ busin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ket pr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termined by laws of supply and dema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not sufficient to cover costs and allow for a profit, the business will cease production of the produ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Rectangle 3"/>
          <p:cNvSpPr/>
          <p:nvPr/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pure compet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9403F-8F2E-43B1-A60A-2AD29E4D3F96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Pricing Polici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e-price poli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customers pay the same price for a produ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lexible pricing poli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ows customers to negotiate a price within a ran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BF0C8-CA59-47AF-901A-BE70C177B0E8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tinct categories of merchandise based upon price, quality, and featu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ographic pric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ows pricing variations based upon geographic lo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Rectangle 3"/>
          <p:cNvSpPr/>
          <p:nvPr/>
        </p:nvSpPr>
        <p:spPr>
          <a:xfrm>
            <a:off x="685800" y="8380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price l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4B374-AED5-43B2-952B-C9C2871AE3B0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ahoma"/>
              </a:rPr>
              <a:t>A Variety of Pricing Strategi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03320"/>
            <a:ext cx="7848720" cy="40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sychological Pric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eating an illusion for customer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estige Pric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gher-than-average pric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rgets customers seeking status and qua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DD02D-8D93-4D28-9ADC-D9DF3074589E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a supplier provides a lower price to a customer who buys a high volume of produc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omotional Pric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ffering customers an incentive to get them in the store ( two-hour/ 50% off sal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r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Promotional Pricing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 next slide…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Rectangle 3"/>
          <p:cNvSpPr/>
          <p:nvPr/>
        </p:nvSpPr>
        <p:spPr>
          <a:xfrm>
            <a:off x="685800" y="8380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Volume Pri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0AEFD-121A-4144-A43E-1FCB4BEE9F5A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Tahoma"/>
              </a:rPr>
              <a:t>Lesson 9.1</a:t>
            </a:r>
            <a:br>
              <a:rPr sz="2000"/>
            </a:br>
            <a:r>
              <a:rPr b="0" lang="en-US" sz="4000" spc="-1" strike="noStrike">
                <a:solidFill>
                  <a:srgbClr val="990000"/>
                </a:solidFill>
                <a:latin typeface="Tahoma"/>
              </a:rPr>
              <a:t>Supply and Demand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ahoma"/>
              </a:rPr>
              <a:t>Goal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lain the relationships between supply, demand, and pri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cuss the government’s influence on pric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913E4-5A48-4F83-B5AE-7DD9AF3BAF7F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533160" y="1447920"/>
            <a:ext cx="83055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ss-Leader Pric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willingness to take a loss on the reduced prices of selected items in order to create more customer traff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ecial event promo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ociates a special sale with a major ev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ba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upons on products that customers can mail in for a refu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pends upon further action by the custom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Rectangle 3"/>
          <p:cNvSpPr/>
          <p:nvPr/>
        </p:nvSpPr>
        <p:spPr>
          <a:xfrm>
            <a:off x="533520" y="6094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Promo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2888E-2C04-4525-8E1F-DE167FEC4303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/>
          </p:nvPr>
        </p:nvSpPr>
        <p:spPr>
          <a:xfrm>
            <a:off x="685440" y="10663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Quantity Discou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ltiple-unit pric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volume based discou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rade-in allow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iving a store your old product when purchasing a new produ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ually results in a discount on the new product purch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A2F93-8F94-4E64-99B0-492B65142B0B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/>
          </p:nvPr>
        </p:nvSpPr>
        <p:spPr>
          <a:xfrm>
            <a:off x="456840" y="2582640"/>
            <a:ext cx="8001000" cy="34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st and describe five pricing strategies to increase sa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7" name="Picture 4" descr=""/>
          <p:cNvPicPr/>
          <p:nvPr/>
        </p:nvPicPr>
        <p:blipFill>
          <a:blip r:embed="rId1"/>
          <a:srcRect l="0" t="3232" r="0" b="0"/>
          <a:stretch/>
        </p:blipFill>
        <p:spPr>
          <a:xfrm>
            <a:off x="380880" y="457200"/>
            <a:ext cx="7856640" cy="2286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87155-DFED-4418-B4D1-2E2DFFBCF88C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ETERMINING THE PRI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are five steps to determining the price to charge for a product or servi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1" name="Picture 4" descr=""/>
          <p:cNvPicPr/>
          <p:nvPr/>
        </p:nvPicPr>
        <p:blipFill>
          <a:blip r:embed="rId1"/>
          <a:srcRect l="36720" t="44795" r="37502" b="31250"/>
          <a:stretch/>
        </p:blipFill>
        <p:spPr>
          <a:xfrm>
            <a:off x="6629400" y="4343400"/>
            <a:ext cx="2362320" cy="1646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96A26-A24C-49F8-BA24-2B8AE95287D3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termine the cost of the product or servi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timate consumer demand for your product or servi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udy the competi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cide on a pricing strateg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Rectangle 3"/>
          <p:cNvSpPr/>
          <p:nvPr/>
        </p:nvSpPr>
        <p:spPr>
          <a:xfrm>
            <a:off x="685800" y="8380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Establish the price objecti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79053-A78A-409C-9BC8-9EC4D02990D3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6840" y="266652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st the five steps for determining pri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7" name="Picture 4" descr=""/>
          <p:cNvPicPr/>
          <p:nvPr/>
        </p:nvPicPr>
        <p:blipFill>
          <a:blip r:embed="rId1"/>
          <a:srcRect l="0" t="3232" r="0" b="0"/>
          <a:stretch/>
        </p:blipFill>
        <p:spPr>
          <a:xfrm>
            <a:off x="380880" y="457200"/>
            <a:ext cx="7856640" cy="2286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AB8BB-2C2F-40E0-8151-8AB7AF6375AB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Tahoma"/>
              </a:rPr>
              <a:t>Lesson 9.3</a:t>
            </a:r>
            <a:br>
              <a:rPr sz="2000"/>
            </a:br>
            <a:r>
              <a:rPr b="0" lang="en-US" sz="4000" spc="-1" strike="noStrike">
                <a:solidFill>
                  <a:srgbClr val="990000"/>
                </a:solidFill>
                <a:latin typeface="Tahoma"/>
              </a:rPr>
              <a:t>Market Conditions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ahoma"/>
              </a:rPr>
              <a:t>Goal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fine the business cycle and describe its impact on sports and entertainm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cuss the importance of monitoring consumer trend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9ADC9-5563-4A85-A274-F17ED26CAFE3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Term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762120" y="1750680"/>
            <a:ext cx="777240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siness cyc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l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oulder periods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D7A42-D9F0-4FA6-8CC2-3AD1578504D6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IMPACT OF THE BUSINESS CYC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usiness cycl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economic cycl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ups and downs of the econom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7" name="Picture 6" descr=""/>
          <p:cNvPicPr/>
          <p:nvPr/>
        </p:nvPicPr>
        <p:blipFill>
          <a:blip r:embed="rId1"/>
          <a:stretch/>
        </p:blipFill>
        <p:spPr>
          <a:xfrm>
            <a:off x="6629400" y="4038480"/>
            <a:ext cx="2298600" cy="1882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427C5-62AB-4414-8B2B-5D6F0EC1015E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9" name="Picture 4" descr=""/>
          <p:cNvPicPr/>
          <p:nvPr/>
        </p:nvPicPr>
        <p:blipFill>
          <a:blip r:embed="rId1"/>
          <a:srcRect l="25003" t="11458" r="3906" b="10420"/>
          <a:stretch/>
        </p:blipFill>
        <p:spPr>
          <a:xfrm>
            <a:off x="1066680" y="304920"/>
            <a:ext cx="6934320" cy="5715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D8BE6-43BF-4565-A012-CC8D3DC07463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Term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62120" y="1750680"/>
            <a:ext cx="777240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w of dem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w of supp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arc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quilibri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ce fix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it and swit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ce discrimination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0904C-1E4B-4E30-AA02-97CC6A8A04B9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Expans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ans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upside of a business cyc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a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ghest point of growth in the econom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6DBE-2FBF-483D-A217-020E79EFA9D6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Contrac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rac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downside of a business cyc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ession or depres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nfl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prices for goods and services rise faster than consumer inco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3FE89-7600-48E3-AB00-7E3F3D8D6CC1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Business Reac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oug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west point of contra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cove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conomy shows signs of improv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sper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period of business expansion following recove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16BB1-864F-4C8E-8B89-36C9F768EE11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Seasonal Cycl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 some businesses, demand fluctuates with the seas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gh sea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eason with the highest dem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w sea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eason with the lowest dem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68C54-8975-47B2-AC49-C1F59C978DCF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685440" y="13716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iods of moderate dem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orts and entertainment marketing strategies must be developed to help even out the fluctuations created by changing seasonal demand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85800" y="8380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shoulder peri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D19AF-3E3E-45CD-8139-74154204470E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/>
          </p:nvPr>
        </p:nvSpPr>
        <p:spPr>
          <a:xfrm>
            <a:off x="380520" y="274284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inflation and how does it contribute to recession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7" name="Picture 5" descr=""/>
          <p:cNvPicPr/>
          <p:nvPr/>
        </p:nvPicPr>
        <p:blipFill>
          <a:blip r:embed="rId1"/>
          <a:srcRect l="0" t="3232" r="0" b="0"/>
          <a:stretch/>
        </p:blipFill>
        <p:spPr>
          <a:xfrm>
            <a:off x="380880" y="457200"/>
            <a:ext cx="7856640" cy="2286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E4904-8134-447C-8655-4E0CC9C660B0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IMPACT OF CONSUMER TREND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ends are dictated b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levision reven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onso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umer dem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1" name="Picture 6" descr=""/>
          <p:cNvPicPr/>
          <p:nvPr/>
        </p:nvPicPr>
        <p:blipFill>
          <a:blip r:embed="rId1"/>
          <a:stretch/>
        </p:blipFill>
        <p:spPr>
          <a:xfrm>
            <a:off x="6629400" y="4038480"/>
            <a:ext cx="2298600" cy="1882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C2B54-BA37-46D5-AA11-726C7527713C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Retro Televis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tro show fans like to relive the good old days and recall positive memories of growing up watching the stars in the sitcom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pular show reruns are inexpensive to show on televis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6240F-59AD-4BBF-8BA0-6367AED03B6E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Game Show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are game show channels that rerun old favorit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w game shows are being produced to meet dema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1ED5C-F15F-4B66-B5A7-123A0DC2A61A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Audience Ratings Speak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levision networks cannot afford the risk of having viewers switch channels to watch a more exciting show on a competing networ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series do not last more than six airings due to flat rating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D60E0-6AFF-47F7-B988-2DFA8CC6C56E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LAWS OF SUPPLY AND DEMAND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m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relationship between the quantity of a product that consumers are willing and able to purchase and the pr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7" name="Picture 4" descr=""/>
          <p:cNvPicPr/>
          <p:nvPr/>
        </p:nvPicPr>
        <p:blipFill>
          <a:blip r:embed="rId1"/>
          <a:srcRect l="36720" t="44795" r="37502" b="31250"/>
          <a:stretch/>
        </p:blipFill>
        <p:spPr>
          <a:xfrm>
            <a:off x="6553080" y="4343400"/>
            <a:ext cx="2362320" cy="1646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99D30-B0F0-43BD-B0A5-4F5F498BC31C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Socio-Culture Issu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cio-culture issues include trends 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ustomer attitud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festy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pin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mographic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essing consumers’ ever-changing needs and wants is the bottom line for the success or failure of a product or servi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7EBF9-1FEF-4E94-A62B-8795FD21C35E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456840" y="2582640"/>
            <a:ext cx="8001000" cy="34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y must sports and entertainment marketers pay careful attention to consumer trend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6" name="Picture 4" descr=""/>
          <p:cNvPicPr/>
          <p:nvPr/>
        </p:nvPicPr>
        <p:blipFill>
          <a:blip r:embed="rId1"/>
          <a:srcRect l="0" t="3232" r="0" b="0"/>
          <a:stretch/>
        </p:blipFill>
        <p:spPr>
          <a:xfrm>
            <a:off x="380880" y="457200"/>
            <a:ext cx="7856640" cy="2286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BF87-748C-4447-8B5E-1F514C333D6D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286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ahoma"/>
              </a:rPr>
              <a:t>PERFORMANCE INDICATORS EVALUATED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228240" y="2742840"/>
            <a:ext cx="85345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monstrate an understanding of the economic challenges facing television network programm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monstrate critical thinking and problem-solving skill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0" name="Picture 5" descr="WinningEdge_Deca"/>
          <p:cNvPicPr/>
          <p:nvPr/>
        </p:nvPicPr>
        <p:blipFill>
          <a:blip r:embed="rId1"/>
          <a:stretch/>
        </p:blipFill>
        <p:spPr>
          <a:xfrm>
            <a:off x="6781680" y="457200"/>
            <a:ext cx="1981440" cy="914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43975-9D33-4DE1-9F21-FA5BE3383F25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/>
          </p:nvPr>
        </p:nvSpPr>
        <p:spPr>
          <a:xfrm>
            <a:off x="380520" y="31240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cribe advertisements that will attract the attention of your target marke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elop a strategy to encourage viewers of the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Price Is Righ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o watch the bowl ga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3" name="Picture 5" descr="WinningEdge_Deca"/>
          <p:cNvPicPr/>
          <p:nvPr/>
        </p:nvPicPr>
        <p:blipFill>
          <a:blip r:embed="rId1"/>
          <a:stretch/>
        </p:blipFill>
        <p:spPr>
          <a:xfrm>
            <a:off x="6781680" y="380880"/>
            <a:ext cx="1981440" cy="914400"/>
          </a:xfrm>
          <a:prstGeom prst="rect">
            <a:avLst/>
          </a:prstGeom>
          <a:ln w="0">
            <a:noFill/>
          </a:ln>
        </p:spPr>
      </p:pic>
      <p:sp>
        <p:nvSpPr>
          <p:cNvPr id="554" name="Rectangle 7"/>
          <p:cNvSpPr/>
          <p:nvPr/>
        </p:nvSpPr>
        <p:spPr>
          <a:xfrm>
            <a:off x="380880" y="1600200"/>
            <a:ext cx="85345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Describe promotions appropriate for the target market that will result in increased ratings for the bowl g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81310-B155-4977-AA72-973CDAC84919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THINK CRITICALL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have the number of bowl games affected the television ratings for the game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y are the scheduled date and time of the game important factors for ratings and promotion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8" name="Picture 5" descr="WinningEdge_Deca"/>
          <p:cNvPicPr/>
          <p:nvPr/>
        </p:nvPicPr>
        <p:blipFill>
          <a:blip r:embed="rId1"/>
          <a:stretch/>
        </p:blipFill>
        <p:spPr>
          <a:xfrm>
            <a:off x="6858000" y="228600"/>
            <a:ext cx="1981080" cy="914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0074-4E29-4D7E-A231-839054675A13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762120" y="3414240"/>
            <a:ext cx="7772400" cy="21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can an association be made between the game show and the bowl game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Rectangle 3"/>
          <p:cNvSpPr/>
          <p:nvPr/>
        </p:nvSpPr>
        <p:spPr>
          <a:xfrm>
            <a:off x="76212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554400" indent="-5544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y should television networks pay attention to the programming scheduled around the game and on competing networks when making decisions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2" name="Picture 4" descr="WinningEdge_Deca"/>
          <p:cNvPicPr/>
          <p:nvPr/>
        </p:nvPicPr>
        <p:blipFill>
          <a:blip r:embed="rId1"/>
          <a:stretch/>
        </p:blipFill>
        <p:spPr>
          <a:xfrm>
            <a:off x="6858000" y="228600"/>
            <a:ext cx="1981080" cy="914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2BFB0-BA20-4339-BA57-93E61536A6D0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685800" y="1750680"/>
            <a:ext cx="77724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sinesses that use resources to develop products and servi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pp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relationship between the quantity of a product that producers are willing and able to provide and the pr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produc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7F082-D4E8-42C9-9F5A-BFCB354BA9FA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Price-Demand Relationship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aw of dem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 inverse relationshi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n the price goes up, demand goes dow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n the price goes down, demand goes up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2D49A-7DC9-42D0-B604-C3083C3C592B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Price-Supply Relationship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aw of supp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the price goes up the supply produced goes u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the price goes down the supply produced goes dow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5223A-9FC0-4223-9A55-1E40A93B3D9C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Scar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carc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umers have limited money to spe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ducers have limited resources to use for produ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umers and producers must decide how to use their limited resources to meet unlimited wants and need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01:31:49Z</dcterms:created>
  <dc:creator> </dc:creator>
  <dc:description/>
  <dc:language>en-US</dc:language>
  <cp:lastModifiedBy>JessicaLee</cp:lastModifiedBy>
  <dcterms:modified xsi:type="dcterms:W3CDTF">2014-01-21T21:37:41Z</dcterms:modified>
  <cp:revision>683</cp:revision>
  <dc:subject/>
  <dc:title>Chapter 9</dc:title>
</cp:coreProperties>
</file>